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84E-5000-4EB3-A62F-39072588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365-C265-4B16-9AEC-AA26DF9F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218-E514-44ED-8559-09ABF485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8A4-7C04-42F2-B615-61721BE1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CAD8-ED29-4B2E-A835-9295B1DD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0304-BE3D-424B-9392-A85EA00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1B13-1CCF-4287-9ECB-AADD22D8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CC77-C8EA-403A-BC56-E5FD0A05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8498-251C-4B6C-9341-E05C2BB8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15C4-702F-4051-B7F8-EFE1FE7E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F08B-67CB-4217-8658-A4A04A5F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51EC-167B-41D1-9F60-D0CAB5B7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26A4-9291-48B9-B56E-C11B43DF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72E7-4619-4CF8-BABB-7CC03F6E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BAC6-71D2-46B7-A8D8-86FC3E01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9D23-7FC5-4122-96C4-A2BE0EE6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8C46-9F84-453E-9BD3-C31385B6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5F4-63F0-420D-B3C9-9BE07487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C27-32DE-4A5F-B0F2-AA4A8F2F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D38-E114-42D0-8408-B161FFBC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D8F-03FD-4A14-A4E5-48E516AA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33AF-6944-489A-9509-F1139CE8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1BB-B82C-4B83-AC6F-BAE2CE70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2866-17B3-495F-8CD4-83DF46B0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F240-4B5F-4480-925E-B728DE410F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AEB7-27A9-45FB-84D2-21062F90668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7915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b7"/>
                </a:solidFill>
                <a:latin typeface="Arial Black"/>
              </a:rPr>
              <a:t>ЛИЧНАЯ ГИГИЕН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43000" y="414288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АОУ «Лицей № 6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34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а должна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иметь запа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ть освежающий вк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более благоприятная температура воды для питья – 7-12 градус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жилищ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ще должно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аточно просторным и сух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рошо освещенным солнечным св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ст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жно проветрива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"/>
          <p:cNvPicPr/>
          <p:nvPr/>
        </p:nvPicPr>
        <p:blipFill>
          <a:blip r:embed="rId1"/>
          <a:stretch/>
        </p:blipFill>
        <p:spPr>
          <a:xfrm>
            <a:off x="4500720" y="1700280"/>
            <a:ext cx="424800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Monotype Corsiva"/>
              </a:rPr>
              <a:t>После таких советов, думаю что вы всегда будете здоровыми, чистыми и опрятными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Black"/>
              </a:rPr>
              <a:t>Понятие гигиен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324000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гиена в переводе с греческого – целебный, приносящи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2177916_f520"/>
          <p:cNvPicPr/>
          <p:nvPr/>
        </p:nvPicPr>
        <p:blipFill>
          <a:blip r:embed="rId1"/>
          <a:stretch/>
        </p:blipFill>
        <p:spPr>
          <a:xfrm>
            <a:off x="4356000" y="1557360"/>
            <a:ext cx="4608720" cy="511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%d0%93%d0%b8%d0%b3%d0%b8%d0%b5%d0%bd%d0%b0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кож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ля поддержания чистоты кожи ежедневно следует принимать душ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тье - основной вид ухода за кожей, при котором с ее поверхности удаляются пыль, микробы, пот, различные загряз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i"/>
          <p:cNvPicPr/>
          <p:nvPr/>
        </p:nvPicPr>
        <p:blipFill>
          <a:blip r:embed="rId1"/>
          <a:stretch/>
        </p:blipFill>
        <p:spPr>
          <a:xfrm>
            <a:off x="5192640" y="2398680"/>
            <a:ext cx="3640320" cy="267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льза бан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11" descr="parnaya"/>
          <p:cNvPicPr/>
          <p:nvPr/>
        </p:nvPicPr>
        <p:blipFill>
          <a:blip r:embed="rId1"/>
          <a:stretch/>
        </p:blipFill>
        <p:spPr>
          <a:xfrm>
            <a:off x="179280" y="1557360"/>
            <a:ext cx="4537080" cy="475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x_d3ab18d4"/>
          <p:cNvPicPr/>
          <p:nvPr/>
        </p:nvPicPr>
        <p:blipFill>
          <a:blip r:embed="rId2"/>
          <a:stretch/>
        </p:blipFill>
        <p:spPr>
          <a:xfrm>
            <a:off x="4932360" y="1484280"/>
            <a:ext cx="396072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i_113"/>
          <p:cNvPicPr/>
          <p:nvPr/>
        </p:nvPicPr>
        <p:blipFill>
          <a:blip r:embed="rId3"/>
          <a:stretch/>
        </p:blipFill>
        <p:spPr>
          <a:xfrm>
            <a:off x="5219640" y="4076640"/>
            <a:ext cx="3600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е забудьте и о зуб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Picture 15" descr="0_705d6_a7bd8d8f_orig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одеж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04760"/>
            <a:ext cx="417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ункция одежды – защита организма от неблагоприятных внешних условий и воздей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на соответствовать времени года, характеру работы, не затруднять движения и дых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9" descr="Рисунок1"/>
          <p:cNvPicPr/>
          <p:nvPr/>
        </p:nvPicPr>
        <p:blipFill>
          <a:blip r:embed="rId1"/>
          <a:stretch/>
        </p:blipFill>
        <p:spPr>
          <a:xfrm>
            <a:off x="4643280" y="1268280"/>
            <a:ext cx="4032360" cy="2546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post-1291457207"/>
          <p:cNvPicPr/>
          <p:nvPr/>
        </p:nvPicPr>
        <p:blipFill>
          <a:blip r:embed="rId2"/>
          <a:stretch/>
        </p:blipFill>
        <p:spPr>
          <a:xfrm>
            <a:off x="5148360" y="3933720"/>
            <a:ext cx="324000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гиена п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авильное хранение продуктов приводит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х порче, 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ение таких продуктов может вызвать пищевые отравления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екционные заболе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кружающей нас среде находится множество микроорганизмов, которые пр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лагоприятных условиях быстро размножаются. Некоторые и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х способны вырабатывать сильные яды (токсины). 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енным микроорганизмам относятся плесневые грибы, дрожжи 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кте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Рацион должен быт разнообразным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Рисунок 8" descr="{2C4AFA75-0736-47BB-A59F-92FDC51620EC}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8:53:30Z</dcterms:created>
  <dc:creator>user</dc:creator>
  <dc:description/>
  <dc:language>en-US</dc:language>
  <cp:lastModifiedBy>Учитель</cp:lastModifiedBy>
  <dcterms:modified xsi:type="dcterms:W3CDTF">2013-05-06T16:48:15Z</dcterms:modified>
  <cp:revision>4</cp:revision>
  <dc:subject/>
  <dc:title>ЛИЧНАЯ ГИГИЕНА</dc:title>
</cp:coreProperties>
</file>